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59B8-70EC-4501-80D9-5B9496D433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2C9D-458D-43BC-B708-24F400564B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B85D-B2DB-4BB9-B0FB-4C53967140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29F2-068D-43D4-967D-FC96C90AC7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0323-9BED-4EB0-8B06-84F87061E2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ADB8-5E99-418A-B3C5-7F1C4FCC0F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28FE-0466-4D6E-A605-D4C1CA7F94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B72C-044E-430E-915C-CBB3D1C53E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2078-B949-4BFF-B193-6AE663E970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440A-6D40-4B97-AA55-CCF7954295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89D0-65C4-4F15-B89D-7D8FF33203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5B56-2AB5-4EC6-B964-6A1D38293F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986F-B870-4228-97EA-E3D398E8A1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B09F-539A-47A9-ABA6-34D83249F6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ゴシック"/>
              </a:rPr>
              <a:t>Progressive Reform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5" descr="2668624"/>
          <p:cNvPicPr/>
          <p:nvPr/>
        </p:nvPicPr>
        <p:blipFill>
          <a:blip r:embed="rId1"/>
          <a:stretch/>
        </p:blipFill>
        <p:spPr>
          <a:xfrm>
            <a:off x="2286000" y="259092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1"/>
          <p:cNvSpPr/>
          <p:nvPr/>
        </p:nvSpPr>
        <p:spPr>
          <a:xfrm>
            <a:off x="1371600" y="1619280"/>
            <a:ext cx="655308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Muckraker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used investigative reporting to uncover and dramatize societal ill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371600" y="2666880"/>
            <a:ext cx="4419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Lincoln Steffens </a:t>
            </a:r>
            <a:br>
              <a:rPr sz="2200"/>
            </a:br>
            <a:r>
              <a:rPr b="0" i="1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e Shame of the Cities</a:t>
            </a:r>
            <a:r>
              <a:rPr b="1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John Spargo</a:t>
            </a:r>
            <a:br>
              <a:rPr sz="2200"/>
            </a:br>
            <a:r>
              <a:rPr b="0" i="1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e Bitter Cry of the Childr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da Tarbell</a:t>
            </a:r>
            <a:br>
              <a:rPr sz="2200"/>
            </a:br>
            <a:r>
              <a:rPr b="0" i="1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e History of Standard O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9" descr="hsus_ch_017_s.1_standardoil_dd.jpg"/>
          <p:cNvPicPr/>
          <p:nvPr/>
        </p:nvPicPr>
        <p:blipFill>
          <a:blip r:embed="rId1"/>
          <a:stretch/>
        </p:blipFill>
        <p:spPr>
          <a:xfrm>
            <a:off x="5619600" y="2511360"/>
            <a:ext cx="2324160" cy="585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990720" y="990720"/>
            <a:ext cx="716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Jacob Ri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exposed the deplorable conditions poor people were forced to live under through his photography and i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How the Other Half Liv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5" descr="2668624"/>
          <p:cNvPicPr/>
          <p:nvPr/>
        </p:nvPicPr>
        <p:blipFill>
          <a:blip r:embed="rId1"/>
          <a:stretch/>
        </p:blipFill>
        <p:spPr>
          <a:xfrm>
            <a:off x="1905120" y="2292480"/>
            <a:ext cx="5257800" cy="41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6"/>
          <p:cNvSpPr/>
          <p:nvPr/>
        </p:nvSpPr>
        <p:spPr>
          <a:xfrm flipH="1" rot="10800000">
            <a:off x="1547640" y="1828440"/>
            <a:ext cx="6019920" cy="2057400"/>
          </a:xfrm>
          <a:prstGeom prst="upArrowCallout">
            <a:avLst>
              <a:gd name="adj1" fmla="val 51318"/>
              <a:gd name="adj2" fmla="val 46531"/>
              <a:gd name="adj3" fmla="val 24505"/>
              <a:gd name="adj4" fmla="val 68540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1295280" y="434340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Upton Sinclair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novel </a:t>
            </a:r>
            <a:r>
              <a:rPr b="0" i="1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e Jung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rovided a shocking look at meatpacking in Chicago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stockyar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943280" y="2057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naturalist novel portrayed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truggle of common peop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4"/>
          <p:cNvSpPr/>
          <p:nvPr/>
        </p:nvSpPr>
        <p:spPr>
          <a:xfrm flipH="1" rot="5400000">
            <a:off x="1066320" y="1828800"/>
            <a:ext cx="3657600" cy="3200400"/>
          </a:xfrm>
          <a:prstGeom prst="upArrowCallout">
            <a:avLst>
              <a:gd name="adj1" fmla="val 20023"/>
              <a:gd name="adj2" fmla="val 18180"/>
              <a:gd name="adj3" fmla="val 16958"/>
              <a:gd name="adj4" fmla="val 43119"/>
            </a:avLst>
          </a:prstGeom>
          <a:gradFill rotWithShape="0">
            <a:gsLst>
              <a:gs pos="0">
                <a:srgbClr val="ffc00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523880" y="2635200"/>
            <a:ext cx="228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 novelists covered a wide range of topic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419720" y="1447920"/>
            <a:ext cx="3429000" cy="42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odore Dreiser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ister Carrie</a:t>
            </a:r>
            <a:r>
              <a:rPr b="0" i="1" lang="en-US" sz="20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iscussed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factory conditions for working wom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rances Ellen Watkin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ola Lero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focused on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acial iss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rank Norri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Octopu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entered on t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tensions between farmers and the railroa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6"/>
          <p:cNvSpPr/>
          <p:nvPr/>
        </p:nvSpPr>
        <p:spPr>
          <a:xfrm flipH="1" rot="10792800">
            <a:off x="712440" y="1226520"/>
            <a:ext cx="7697880" cy="1515960"/>
          </a:xfrm>
          <a:prstGeom prst="upArrowCallout">
            <a:avLst>
              <a:gd name="adj1" fmla="val 47633"/>
              <a:gd name="adj2" fmla="val 44126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AutoShape 5"/>
          <p:cNvSpPr/>
          <p:nvPr/>
        </p:nvSpPr>
        <p:spPr>
          <a:xfrm flipH="1" rot="5400000">
            <a:off x="3618720" y="3390480"/>
            <a:ext cx="1981080" cy="3429000"/>
          </a:xfrm>
          <a:prstGeom prst="rect">
            <a:avLst/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048120" y="4191120"/>
            <a:ext cx="30477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hristian reformer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 Social Gosp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demanded a shorter work day and the end of child lab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685800" y="1295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 reformers worked t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hange societ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14400" y="274320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Jane Addam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ed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ettlement hous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ovement. Her urban community centers provided social services for immigrants and the po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1066680" y="83808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s succeeded in reducing child labor and improving school enrollmen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8" descr="ch17_charts_hsus_se_p0553b"/>
          <p:cNvPicPr/>
          <p:nvPr/>
        </p:nvPicPr>
        <p:blipFill>
          <a:blip r:embed="rId1"/>
          <a:stretch/>
        </p:blipFill>
        <p:spPr>
          <a:xfrm>
            <a:off x="4800600" y="2819520"/>
            <a:ext cx="3822840" cy="329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h17_charts_hsus_se_p0553a"/>
          <p:cNvPicPr/>
          <p:nvPr/>
        </p:nvPicPr>
        <p:blipFill>
          <a:blip r:embed="rId2"/>
          <a:stretch/>
        </p:blipFill>
        <p:spPr>
          <a:xfrm>
            <a:off x="533520" y="2895480"/>
            <a:ext cx="3954240" cy="30402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1219320" y="16765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United States Children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 Bureau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as created in 1912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ounded Rectangle 9"/>
          <p:cNvSpPr/>
          <p:nvPr/>
        </p:nvSpPr>
        <p:spPr>
          <a:xfrm>
            <a:off x="2057400" y="2209680"/>
            <a:ext cx="4876920" cy="22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362320" y="2666880"/>
            <a:ext cx="44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1, 146 workers died in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riangle Shirtwaist Fi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. Many young women jumped to their deaths or burn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371600" y="1295280"/>
            <a:ext cx="64008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the 1900s, the U.S. had the world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highest rate of industrial accident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600200" y="48006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orker safety was an important issue for Progressiv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4"/>
          <p:cNvSpPr/>
          <p:nvPr/>
        </p:nvSpPr>
        <p:spPr>
          <a:xfrm flipH="1" rot="5400000">
            <a:off x="1476000" y="1714320"/>
            <a:ext cx="3200400" cy="3733920"/>
          </a:xfrm>
          <a:prstGeom prst="upArrowCallout">
            <a:avLst>
              <a:gd name="adj1" fmla="val 19965"/>
              <a:gd name="adj2" fmla="val 18454"/>
              <a:gd name="adj3" fmla="val 16960"/>
              <a:gd name="adj4" fmla="val 40044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590840" y="2362320"/>
            <a:ext cx="22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o reform society, Progressives realized they must also reform govern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5029200" y="2181240"/>
            <a:ext cx="327672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Government could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not be controlled by political boss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and business intere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Government needed to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be more efficient and more account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to the peop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1"/>
          <p:cNvSpPr/>
          <p:nvPr/>
        </p:nvSpPr>
        <p:spPr>
          <a:xfrm>
            <a:off x="1066680" y="2590920"/>
            <a:ext cx="6782040" cy="320040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45929" dir="337112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10"/>
          <p:cNvSpPr/>
          <p:nvPr/>
        </p:nvSpPr>
        <p:spPr>
          <a:xfrm flipH="1" rot="10792800">
            <a:off x="1141920" y="1219320"/>
            <a:ext cx="6781680" cy="1234800"/>
          </a:xfrm>
          <a:prstGeom prst="upArrowCallout">
            <a:avLst>
              <a:gd name="adj1" fmla="val 59554"/>
              <a:gd name="adj2" fmla="val 55506"/>
              <a:gd name="adj3" fmla="val 27056"/>
              <a:gd name="adj4" fmla="val 77709"/>
            </a:avLst>
          </a:prstGeom>
          <a:gradFill rotWithShape="0">
            <a:gsLst>
              <a:gs pos="0">
                <a:srgbClr val="ffcc66">
                  <a:alpha val="97254"/>
                </a:srgbClr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752480" y="12193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ities and states experimented with new methods of govern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19320" y="2514600"/>
          <a:ext cx="6476760" cy="3330720"/>
        </p:xfrm>
        <a:graphic>
          <a:graphicData uri="http://schemas.openxmlformats.org/drawingml/2006/table">
            <a:tbl>
              <a:tblPr/>
              <a:tblGrid>
                <a:gridCol w="6476760"/>
              </a:tblGrid>
              <a:tr h="1447920">
                <a:tc>
                  <a:txBody>
                    <a:bodyPr lIns="137160" rIns="137160" tIns="137160" bIns="9144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In Wisconsin, Governor Robert M. La Follette and other Progressives reformed state government to 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  <a:ea typeface="MS Pゴシック"/>
                        </a:rPr>
                        <a:t>restore political control to the peop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37160" marR="13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882800">
                <a:tc>
                  <a:txBody>
                    <a:bodyPr lIns="137160" rIns="137160" tIns="137160" bIns="91440" anchor="t">
                      <a:noAutofit/>
                    </a:bodyPr>
                    <a:p>
                      <a:pPr lvl="1" marL="571680" indent="-22860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  <a:ea typeface="MS Pゴシック"/>
                        </a:rPr>
                        <a:t>direct primar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571680" indent="-22860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  <a:ea typeface="MS Pゴシック"/>
                        </a:rPr>
                        <a:t>initiativ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571680" indent="-22860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  <a:ea typeface="MS Pゴシック"/>
                        </a:rPr>
                        <a:t>referendum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571680" indent="-22860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  <a:ea typeface="MS Pゴシック"/>
                        </a:rPr>
                        <a:t>recal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37160" marR="13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2"/>
          <p:cNvSpPr/>
          <p:nvPr/>
        </p:nvSpPr>
        <p:spPr>
          <a:xfrm>
            <a:off x="609480" y="1295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 governors achieved state-level reforms of the railroads and tax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Group 6"/>
          <p:cNvGrpSpPr/>
          <p:nvPr/>
        </p:nvGrpSpPr>
        <p:grpSpPr>
          <a:xfrm>
            <a:off x="838080" y="4038480"/>
            <a:ext cx="6934320" cy="1143000"/>
            <a:chOff x="838080" y="4038480"/>
            <a:chExt cx="6934320" cy="1143000"/>
          </a:xfrm>
        </p:grpSpPr>
        <p:sp>
          <p:nvSpPr>
            <p:cNvPr id="105" name="Rounded Rectangle 6"/>
            <p:cNvSpPr/>
            <p:nvPr/>
          </p:nvSpPr>
          <p:spPr>
            <a:xfrm>
              <a:off x="838080" y="4038480"/>
              <a:ext cx="693432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dcdff">
                    <a:alpha val="62352"/>
                  </a:srgbClr>
                </a:gs>
                <a:gs pos="100000">
                  <a:srgbClr val="e8eae9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Rectangle 2"/>
            <p:cNvSpPr/>
            <p:nvPr/>
          </p:nvSpPr>
          <p:spPr>
            <a:xfrm>
              <a:off x="990720" y="4114800"/>
              <a:ext cx="6476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On the national level, in 1913, Progressive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elped pass the </a:t>
              </a:r>
              <a:r>
                <a:rPr b="0" lang="en-US" sz="20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17</a:t>
              </a:r>
              <a:r>
                <a:rPr b="0" lang="en-US" sz="2000" spc="-1" strike="noStrike" baseline="30000">
                  <a:solidFill>
                    <a:srgbClr val="002060"/>
                  </a:solidFill>
                  <a:latin typeface="Verdana"/>
                  <a:ea typeface="Arial"/>
                </a:rPr>
                <a:t>th</a:t>
              </a:r>
              <a:r>
                <a:rPr b="0" lang="en-US" sz="20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 Amendment,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roviding for the </a:t>
              </a:r>
              <a:r>
                <a:rPr b="0" lang="en-US" sz="2000" spc="-1" strike="noStrike">
                  <a:solidFill>
                    <a:srgbClr val="0033cc"/>
                  </a:solidFill>
                  <a:latin typeface="Verdana"/>
                  <a:ea typeface="Arial"/>
                </a:rPr>
                <a:t>direct election of United States Senators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Rectangle 5"/>
          <p:cNvSpPr/>
          <p:nvPr/>
        </p:nvSpPr>
        <p:spPr>
          <a:xfrm>
            <a:off x="838080" y="2590920"/>
            <a:ext cx="67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wo Progressive Governors,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Theodore Roosevel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f New York and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Woodrow Wilson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f New Jersey, would become Progressive presi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1143000" y="2057400"/>
            <a:ext cx="72025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10000"/>
              </a:lnSpc>
              <a:spcBef>
                <a:spcPts val="16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the causes of Progressivis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Bef>
                <a:spcPts val="16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the role that journalists played in the Progressive Mov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Bef>
                <a:spcPts val="16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e some of the social reforms that Progressives tackle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Bef>
                <a:spcPts val="16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what Progressives hoped to achieve through political reform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5760" y="137016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370160"/>
            <a:ext cx="752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914400" y="1752480"/>
            <a:ext cx="7772400" cy="40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Progressivis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ovement that responded to the pressures of industrialization and urbanization by promoting refor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muckrake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riter who uncovers and exposes misconduct in politics or busin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Lincoln Steffen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muckraking author of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hame of the Cities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exposed corruption in urban govern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Jacob Rii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muckraking photographer and author of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How The Other Half Lives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exposed the condition of the urban po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533520" y="1370160"/>
            <a:ext cx="75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762120" y="1981080"/>
            <a:ext cx="7619760" cy="43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Jane Addam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eader in the settlement house mov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ettlement hous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community center that provided services for the urban po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ocial Gospe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elief that following Christian principles could bring about social justic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direct primar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llowed voters to select candidates rather than having them selected by party lead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9"/>
          <p:cNvSpPr/>
          <p:nvPr/>
        </p:nvSpPr>
        <p:spPr>
          <a:xfrm>
            <a:off x="455760" y="1370160"/>
            <a:ext cx="75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762120" y="2133720"/>
            <a:ext cx="7619760" cy="25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initiativ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rocess in which citizens put a proposed new law directly on the ballo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referendu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cess that allows citizens to reject or accept laws passed by their legisla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recal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cess by which voters can remove elected officials from office before their terms e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1"/>
          <p:cNvSpPr/>
          <p:nvPr/>
        </p:nvSpPr>
        <p:spPr>
          <a:xfrm>
            <a:off x="1295280" y="1676520"/>
            <a:ext cx="74678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What areas did Progressives think were in need of the greatest reform?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1295280" y="2743200"/>
            <a:ext cx="7239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Progressiv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was a reform movement that responded to the social challenges caused by industrialization, urbanization, and immigration in the 1890s and 1900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s believed that honest and efficient government could bring about social justi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14" descr=""/>
          <p:cNvPicPr/>
          <p:nvPr/>
        </p:nvPicPr>
        <p:blipFill>
          <a:blip r:embed="rId1"/>
          <a:stretch/>
        </p:blipFill>
        <p:spPr>
          <a:xfrm>
            <a:off x="685800" y="1655640"/>
            <a:ext cx="523800" cy="55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"/>
          <p:cNvSpPr/>
          <p:nvPr/>
        </p:nvSpPr>
        <p:spPr>
          <a:xfrm flipH="1" rot="5400000">
            <a:off x="1257120" y="1600200"/>
            <a:ext cx="3124080" cy="3124080"/>
          </a:xfrm>
          <a:prstGeom prst="upArrowCallout">
            <a:avLst>
              <a:gd name="adj1" fmla="val 13418"/>
              <a:gd name="adj2" fmla="val 12500"/>
              <a:gd name="adj3" fmla="val 16958"/>
              <a:gd name="adj4" fmla="val 42341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29"/>
          <p:cNvSpPr/>
          <p:nvPr/>
        </p:nvSpPr>
        <p:spPr>
          <a:xfrm>
            <a:off x="4305240" y="1523880"/>
            <a:ext cx="4000680" cy="32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eliev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industrialization and urbanization had created social and political problem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ere mainly from the emerging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middle cla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anted to reform by using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logic and reas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419120" y="2362320"/>
            <a:ext cx="221004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s were reformers wh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9"/>
          <p:cNvSpPr/>
          <p:nvPr/>
        </p:nvSpPr>
        <p:spPr>
          <a:xfrm>
            <a:off x="914400" y="14572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s believed honest and efficient government could bring about social justi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600200" y="2819520"/>
            <a:ext cx="541008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wanted to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end corrup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tried to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make government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more responsive to people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 need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believed that educated lead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hould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use</a:t>
            </a:r>
            <a:r>
              <a:rPr b="0" i="1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modern ideas and scientific        techniques to improve socie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295280" y="1219320"/>
            <a:ext cx="57913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s targeted a variety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f issues and problem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Box 21"/>
          <p:cNvSpPr/>
          <p:nvPr/>
        </p:nvSpPr>
        <p:spPr>
          <a:xfrm>
            <a:off x="1752480" y="2438280"/>
            <a:ext cx="487692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7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rrupt political mach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7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rusts and monopo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7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equ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7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afe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7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ity servic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7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ome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 suff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0:32:08Z</dcterms:modified>
  <cp:revision>295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